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624B-5708-49A6-B117-07F4B570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1AB-ACEB-4B3E-93E7-64698694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5E7-CC09-4A36-84E6-02141A74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26E5-4525-4D31-B0B2-9C2436FE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BA2-458D-4DBA-B469-2EB664A28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9B20-560D-4302-98D4-A211BFE0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35D-6F41-4276-86A6-70837BC6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416-7F48-47AF-B0FA-9BCA97A3C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F75-36AF-4B29-9411-980A89020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B516-1208-4F81-9988-8897ABBE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216-D788-4418-B724-BB3BF111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2C3-071A-4811-9643-CF580E06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A6E-7A6F-4CAC-97F3-DFACB8369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9759-0137-4CBB-B362-1DB943D6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D984-D56D-46CC-84D8-AB901D0F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D1C-E081-444E-9246-A1636647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427-E725-490C-A2AF-687AB0F8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AD2-E507-4E43-AB70-8A501CD1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8DDE-EEB1-4D6F-AA8C-57216DB5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836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И ФАРМАЦЕУТСКИ ПРЕПА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282920" y="264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211640" y="5157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5228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633240" y="206820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703440" y="441180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633240" y="2349360"/>
            <a:ext cx="2138400" cy="207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338560" y="4460760"/>
            <a:ext cx="19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 rot="16200000">
            <a:off x="-628920" y="2778480"/>
            <a:ext cx="19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 rot="18900000">
            <a:off x="1460880" y="231156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684360" y="1052640"/>
                <a:ext cx="985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Line 11"/>
          <p:cNvSpPr/>
          <p:nvPr/>
        </p:nvSpPr>
        <p:spPr>
          <a:xfrm flipV="1">
            <a:off x="4367160" y="2144880"/>
            <a:ext cx="0" cy="23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367160" y="451152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072120" y="453708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 rot="16200000">
            <a:off x="3106080" y="300744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340240" y="27925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4427640" y="3240000"/>
            <a:ext cx="22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4932360" y="5229360"/>
            <a:ext cx="39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њутновских течности зависи само од ТЕМПЕРАТУРЕ, а не од брзине смицањ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179280" y="510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једначина у дијаграму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је праву линију, са почет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ом у координатном почетку, а вискозитет је тангенс угла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ова права заклапа 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Њутновских те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(маслиново, сунцокрето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220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и који се не понашају по Њутновом закону тј. код којих вискозитет није константан, називају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е теч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 између брзине и напона смицања је обично приказа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во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авом која не полази из координатног поч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који настаје као резултат унутрашњег отпора при дејству силе, сложенији је него код њутновских система. Као последица дејства силе и померања унутрашњих слојев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ази до појаве протицања у ширем смисл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, када се у реологији говори о протицању тада се под тим изразом не подразумев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 протицањ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јав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што је деформација која настаје под дејством спољних сила, као и друге механичке особине датих система (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астичност, пластичност, растегљивост, вискоеластичнос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, масти, кремов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макромолек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њутновских течности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константан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је у функцији брзине смицања D, која се приказу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ким кривама - криве протицањ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D доводи до смањења вискозите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чина која описује протицање нењутновских течност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3132000" y="4076640"/>
                <a:ext cx="17370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5"/>
          <p:cNvSpPr/>
          <p:nvPr/>
        </p:nvSpPr>
        <p:spPr>
          <a:xfrm>
            <a:off x="539640" y="573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ривидни вискозитет (Pa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91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зависе од времен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зина смицања је функција само примењеног напона смицања, а не и време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и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еластични системи, код којих реолошке карактериситке такођ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уктура самог система долази до изражаја, тако д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и показују особине и чврстих тел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астичност)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теч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скозитет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84360" y="981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Нењутновских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842472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смицања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било којој тачки система који протиче, представљ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у напона смицања и обрнут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f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li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f 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е вредности вискозитета зависе од примењене брзине смицања или напона смицања што практично значи и од конструкције вискозиметра, па се вискозитет нењутновских система назива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дни вискозите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група реолошких система даје три типа протицањ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не зависе од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4549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пластичних система је постојањ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ушт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осног напона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течност почела да тече мора се савладати приносни напо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д ове критичне вредности пластично тело не протиче већ трпи само реверзибилне деформације као еластична чврста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ни напон је последица успостављања веза између суседних честица система, које се морају раскинути да би систем почео да т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почиње да тече када је споља примењена сила већа од унутрашњих структурних сила присутних у препар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флокуловани системи (суспензије, емулзије) имају већу вредност напона попуш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онашање показују неке масти, кремови, гели, пас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дерматолошку примену би требало да показују пластично понашање. Притиском на тубу савлада се приносни напон и препарат почиње да тече из тубе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an18"/>
          <p:cNvPicPr/>
          <p:nvPr/>
        </p:nvPicPr>
        <p:blipFill>
          <a:blip r:embed="rId1"/>
          <a:stretch/>
        </p:blipFill>
        <p:spPr>
          <a:xfrm>
            <a:off x="1258920" y="2997360"/>
            <a:ext cx="6626160" cy="283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755640" y="587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B. Кривe протицања код пластич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468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цање псеудопластичних система не зависи од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осног нап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силе псеудопластични сист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мах почиње да теч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ива течења почиње из координантног почет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са повећањем брзине смицања долази до разређивања, јер им се вискозитет смањ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поли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 деривата целул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 ксантан гуме у нижим концентр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а о протицању и деформацији материје под утицајем спољних сила и даје везу измеђ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, деформације и вре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ре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ћи, протиц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ске основе реологије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к Њут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 расте брже него напон смицања, градећи при томе криву течења конкавну према апсциси која представља брзину смиц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an19"/>
          <p:cNvPicPr/>
          <p:nvPr/>
        </p:nvPicPr>
        <p:blipFill>
          <a:blip r:embed="rId1"/>
          <a:stretch/>
        </p:blipFill>
        <p:spPr>
          <a:xfrm>
            <a:off x="1332000" y="2781360"/>
            <a:ext cx="667836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5564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 протицања и вискозитета псеудопластичних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5280" y="1945800"/>
            <a:ext cx="8166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 или смицај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шња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система супротно псеудопластич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 с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астом вискозитета са повећањем брзине смиц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тко 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а великим садржајем диспергованих че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an25"/>
          <p:cNvPicPr/>
          <p:nvPr/>
        </p:nvPicPr>
        <p:blipFill>
          <a:blip r:embed="rId1"/>
          <a:stretch/>
        </p:blipFill>
        <p:spPr>
          <a:xfrm>
            <a:off x="971640" y="1628640"/>
            <a:ext cx="6572160" cy="2806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042920" y="522936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зависности брзине смицања и напона смицања код дилатантног протицања - повећањем брзине смицања нагло расте напон смицања тј.вискоз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84265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вискозитет у 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и брзине смицања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</a:t>
            </a:r>
            <a:r>
              <a:rPr b="1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на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трајања спољашње сил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долази до разрушавања и успостављања унутрашње структуре што захтева извесно врем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у групу нењутновских течности убрајају се појав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зависе од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3840" y="1915920"/>
            <a:ext cx="8750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потиче од реч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is – мешање и trepo – обнављање или промена (промена до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ности и получвр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ла се одликују високим вискозитетом при ниским напонима смицања, али се вискозитет смањује при повећању напона смиц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иксотропијом се подразумева да неки колоидни систем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мировању прелазе у чврсто ст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рај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пр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чком дејству поново постај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- унутрашњи отпор зависи од интензитета примењене механичке силе, времена њеног трајања и износа претходних деформ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5960" y="638172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0. Криве протицања тиксотропних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dan26"/>
          <p:cNvPicPr/>
          <p:nvPr/>
        </p:nvPicPr>
        <p:blipFill>
          <a:blip r:embed="rId1"/>
          <a:srcRect l="-3230" t="0" r="0" b="0"/>
          <a:stretch/>
        </p:blipFill>
        <p:spPr>
          <a:xfrm>
            <a:off x="324000" y="3357720"/>
            <a:ext cx="8229600" cy="300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250920" y="981000"/>
            <a:ext cx="88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е особине показ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полимер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желатине, пектина, скроба, дериват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, кр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ако садрже средство за повећање вискозите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995480"/>
            <a:ext cx="859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ојава где при механичком дејств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ом времена долази до повећањ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она смицања тј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мировању систем губи конзистенцију (појава супротна тиксотропији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титиксотропне системе равнотежа је сол стање (размекшани, течан обл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и код којих се узлазна крива која показује разређивање (омекшавање) и силазна крива која показује згушњавање преклапа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а који показују реопексију долази до успостављања тиксотропне структуре, односно до повећања вискозитета при лаганом механичком дејству. Гел форма је равнотежно стањ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 и реопек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840" y="12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9640" y="5805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1. Криве протицања антитиксотропних система и система који показују реопек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an27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300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е супстанце су оне, које под дејством механичк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а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актеристике и чврстих и течних систем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колоидни системи, концентровани раствори линеарних макромолекула, желатин и скроб, нису ни идеално чврсти ни идеално течни, већ поседују у различитом обиму особине и чврстих и течних те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тела производе како еластичне тако и вискозне деформације, па се називају вискоеластич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тиксотропних, код високоеластичних систем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олази до потпуног разрушавања унутрашње структуре и преласка у теч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л) стање, тако да и поред промена које се дешавају под дејством спољних сила остају мање- више 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ом стањ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вискоз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метром –  на одређеној температури и при одређеној брзини смицања (нпр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okfiel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скозиме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они вискозиметар – за получврсте препарате који припадају нењутновским системима. Мерење се врши на константној температури (20±0,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и параметри који се могу одредити ротационим вискозиметром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и максимални 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попуш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тицања (пластично, псеудопластично, дилатан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је област физике која се бави деформацијама и течењем матер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еолошке тачке гледишта, систем ј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поседуј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бл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им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со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не задржи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је на њег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антна сил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но чврсто тело се деформише под дејством силе и враћа у првобитно стање по престанку деловања силе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могу да се под притиском сабију и смање волумен, али се враћају у почетни волумен када притисак прест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течних фармацеутс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98900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ње реолошких особина фарм. препарата је неопходно ради процене квалитета, стабилности, избора опреме и технолошких поступака израде као и примене (истицање из амбалаже и апликација) независно од конзистен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у њутновског типа, много чешће нењутновско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емулзије биле стабилне требало би да буду псеудопластичног типа (да лако теку при мућкању, изливању из боц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показују пластично или псеудопластично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концентра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стабилизације, често се додају помоћне материје које повећавају вискозитет спољашњој фази, пошто бубре у води (ксантан г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C, CM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дујуће средство, настаје суспензија са већим вискозитетом у мировању, који се може смањити мућкањем или сип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количина средства за повећање вискозитета (бентонит), доћи ће до појав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ксотр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спендујуће средство омогућава да се добије суспензија која не седимент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6200" y="1916280"/>
            <a:ext cx="8301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и получврсте конзистенције имају јединствене реолошке особине, јер немају свој облик (заузимају облик амбалаже) и лако се деформишу под дејством спољашње силе: истичу из боце, истискују из тубе, омекшавају и распростиру при размазивању на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крем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лексно реолошко понашање које може укључити иреверзибилно рушење структуре, тиксотропно, вискоеластично понаш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с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и нижим концентрацијама гелирајућег средства, док при вишим концентрацијама понашање прелаз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препарата получврст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8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реолошких особина течних и получврстих препарата и типа протицања може се предвидети понашање и стабилност током производње, чувања и примене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току производње предвиђа се реолошким мерењима при великим брзинама смицања (користе се мешалице са великом брзином мешањ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стању мировања или током терапијске примене предвиђа се реолошким мерењима при малим брзинама смиц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зматрања ограничимо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не систем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под дејством спољних сила протичу, унутрашњи отпор који се противи узајамном померању суседних слојева и протицању течности, назива с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течност посматрамо као низ веома танких слојева који се при протицању крећу један мимо другог, различитим брзинама, онда је унутрашњи отпор течности последица узајамног трења суседних слојев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дефинише као унутрашње трење између суседних слојева који протичу различитим брз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материјала према типовима течења и дефо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2565360"/>
            <a:ext cx="324972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067280" y="2565360"/>
            <a:ext cx="4537080" cy="344664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н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зави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и сист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915920"/>
            <a:ext cx="8435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за које важи Њутнов закон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овршина течности на коју делује сил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г отпор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вискозитета или вискоз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дијент брзине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 закон вискозитета важи само за ламинарно (слојевито) протицање т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967120" y="2637000"/>
                <a:ext cx="2343240" cy="10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ка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=1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v/dx=1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лаз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ефицијент викозитета или вискозитет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нак сили унутрашњег отпора протицању коју пружа слој течности на јединици површине, када је градијант брзине протицања јединица (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вискозитет се назив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ички вискозитет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динамичког вискозитета су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g/m 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и вискозитет – тангенцијална сила потребна да се слој течности помери паралелно у односу на раван клиз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08360" y="2421000"/>
            <a:ext cx="1871640" cy="863640"/>
          </a:xfrm>
          <a:prstGeom prst="rect">
            <a:avLst/>
          </a:prstGeom>
          <a:solidFill>
            <a:srgbClr val="9c9cdf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Њутнова једначина модификује тако 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/A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dv/dx=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бија с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/A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hear stress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N/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Pa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ива се и одговара тангенцијалном напону који се јавља при дефорамцији тела сил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по јединици површ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=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цањ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ar rate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341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ке течности је отпор протицању и одређен је било којим количником напона и брзине смиц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=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постоји директна пропорционалност између напона смицања и брзине смицања, однос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и од ових параметара и и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у вред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23T09:17:53Z</dcterms:modified>
  <cp:revision>218</cp:revision>
  <dc:subject/>
  <dc:title>Slide 1</dc:title>
</cp:coreProperties>
</file>